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5BE-6B59-4F1B-9E8F-CD0F5FFF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95C-AC65-4666-B147-D035352C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294-B511-4579-91E5-911842D3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DE4-DE7F-4586-9612-1B3095F3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D80-4C79-4B05-9F2E-8360FEEE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837-8C7F-4578-942B-3EE0591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EA6-3BC8-45F1-930C-CA304E1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6D0-59ED-4E5F-B1CB-492FFA0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2BC-DBC2-47B7-936D-E1772E9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9D7-40D1-4323-BAB7-C01A4E1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AFE-50B2-4037-8361-0943308A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B19-05DF-449E-BB71-4FF4F1E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4DE-35C0-4CEC-B81B-22C60028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ir purse is durt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tirtle ca’nt run fas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 want to do some thing fur Bil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I want to do something for Bil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0. Do you had any idea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o you have any idea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ir purse is durt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r purse is dirt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tirtle ca’nt run fas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turtle can’t run fast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Last week end I sent a le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om red a story at bed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Last week end I sent a le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Last weekend I sent a let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m red a story at be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My mom read a story at bedti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saw a toy in the drive 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ne played a trick on 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aw a toy in the driv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He saw a toy in the drivew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ne played a trick on 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Someone played a trick on 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I fish in the pond yesserda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I will fished agen tomorrow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I fish in the pond yesserda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I fished in the pond yesterda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I will fished agen tomorrow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 will fish again tomorrow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 want to do some thing fur Bil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Do you had any idea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14T02:27:36Z</dcterms:modified>
  <cp:revision>40</cp:revision>
  <dc:subject/>
  <dc:title>Slide 1</dc:title>
</cp:coreProperties>
</file>